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359-4CE7-48F4-9ABC-490ECFE6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79D-0751-40EF-865F-A2F18E95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27B-79E2-4EA9-B3A2-838A6AB3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FC3-F87C-40D3-B8EA-534183F1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3E0-D42C-4B53-8DAC-265F5A6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653-0834-4529-9B62-C13C23FD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81F-570A-4D7C-9B40-6E702FAC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B61-DD3B-442D-9DAB-2A5546F2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831-A21A-4312-9DE4-3773EF2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45E-95E8-4E07-BB36-1782B85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665-4A34-4695-B2CB-50579CE4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F21-BFBA-4F07-AAE8-0AE6B28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52C-9479-488E-BE0F-FF36BF601C80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Edwardian Script ITC"/>
              </a:rPr>
              <a:t>Luna- </a:t>
            </a:r>
            <a:br>
              <a:rPr sz="7200"/>
            </a:br>
            <a:r>
              <a:rPr b="1" lang="ro-RO" sz="4800" spc="-1" strike="noStrike">
                <a:solidFill>
                  <a:srgbClr val="000000"/>
                </a:solidFill>
                <a:latin typeface="Edwardian Script ITC"/>
              </a:rPr>
              <a:t>motiv poe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Soos Crist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Cls. a XI-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Prof. Chis Dan Liv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Script MT Bold"/>
              </a:rPr>
              <a:t>Semnificaţia  lunii   în   poe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557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844640"/>
            <a:ext cx="7812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strul nocturn este „un instrument de măsură universal” al timpului, ritmând viaţa şi moartea deopotrivă, de aceea, nu este deloc neobisnuit că luna a fost, simultan, privită ca simbol al fertilitătii şi ca simbol al morţ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una este un simbol plurivalent, care apare cuprecădere î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oezia romantică. Astfel, ea intră în scenariul  noc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l  poemului romantic nu numai ca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bligatoriu, ci şi ca topos literar de mare prestig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indicând  prezenţa imaginarului po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Script MT Bold"/>
              </a:rPr>
              <a:t>Poezii în care este valorificat motivul l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 vânăm lumina lunii” -Nichita Stă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ătre lună” -Ştefan Octavian Ios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ara pe deal” - Mihai Emi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una” şi “Noaptea” -Alexandru Vlah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omanţa” –George Baco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onata lunii” Lucian Bl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197000"/>
            <a:ext cx="43164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1125360"/>
            <a:ext cx="790560" cy="79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7451640" y="1197000"/>
            <a:ext cx="43200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15:34Z</dcterms:created>
  <dc:creator>CHANGE_ME1</dc:creator>
  <dc:description/>
  <dc:language>en-US</dc:language>
  <cp:lastModifiedBy>CHANGE_ME1</cp:lastModifiedBy>
  <dcterms:modified xsi:type="dcterms:W3CDTF">2011-11-06T12:26:04Z</dcterms:modified>
  <cp:revision>3</cp:revision>
  <dc:subject/>
  <dc:title>Luna,  motiv poet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